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44DF-AC76-459C-A45F-5CAD6347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2118-7928-4ECB-BCC7-D0233AA2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C738-D9AB-4864-9909-3D13667F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832-DFF5-4449-9858-55EAB3B6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B0FC-03EC-4F08-885E-B9A8A543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549D-37D5-407F-9C1D-43D767A6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81BE-1289-4F52-98FF-8E5AA126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70AC-4371-4F54-942F-F9B08C06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79EA-A9C4-4670-9BEA-78DA74E7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51AB-218D-41D7-B20D-DCE7D2CB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427F-A0DE-4245-96EF-FA422954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DC8D-BFF4-4409-A51B-B8A3BC86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B6B1-1880-480C-B9A3-CE64FE35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442A-0CC5-4ADD-BE36-4E605219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9688-B1A1-45ED-BFCE-5D4C1982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FA74-D859-4728-A9C0-69FD6C53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E439-5A5C-4B4E-B8D3-0B8B09DB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E4D-12E6-4825-82E4-F6BC284F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D18-6387-4B8B-97B3-9CF0CAA4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181-84FF-456E-8CDA-A0F7F1EC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304-3E8F-46CA-9C16-3FC31118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152-FA85-438A-B164-5DAF68C5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04E-D95A-4FE6-B50C-DC05D6D3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40C-369F-4346-A28D-B053A214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28D6-4286-480F-B88D-C245C82B6E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D43C-40D0-4C80-874C-2B5675323C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hark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Kameron Javan Christop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o you think sharks are interesting? If so read to find out more about them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5419800" cy="3047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arks have been around for four hundred million years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 shark’s tooth falls out, then another tooth will come 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5334120" cy="426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ull sharks have been found 1,000 miles away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828880" y="198108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066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Bull sharks can swim through salt water to clear water.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me sharks can smell blood from far far away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929628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ger sharks can swim very fa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8120" y="32004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iger sharks can swim very fast by using their tail.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iger sharks can be orange and black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a shark’s defense, they bi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91120" y="4038480"/>
            <a:ext cx="4952880" cy="2819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harks have really good teeth for biting and for protection and for guarding.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ometimes sharks sink their teeth into other animals.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47920" y="3581280"/>
            <a:ext cx="7696080" cy="3276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 hope you had a great time reading about sharks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5105520" cy="4419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27:22Z</dcterms:modified>
  <cp:revision>4</cp:revision>
  <dc:subject/>
  <dc:title>Animal Name</dc:title>
</cp:coreProperties>
</file>